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1E0-1F34-490A-ABDB-9D92E300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376-997B-4C8E-B43A-630F9B59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AF9-84A4-4C15-9F63-D3383726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502-A7C1-4891-A223-7A9788AD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BDA-0729-4C7C-B5C6-3259D0A4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610-50C1-45EC-BA02-FB57CF0B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67E-9383-4791-8BCB-35E0811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93B-48DA-4B46-AB35-40913F20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1B9-51B6-4FCC-B57B-16AE74DC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972-FE18-4665-805A-434569E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93B-334E-4975-955D-98A13D0B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66F-7810-4115-8112-4D96C2A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C3AF-57E9-4EF8-934F-8DD075C9B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2280" y="228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S MUSS AUF DEUTSCH SEIN!!!!!  Hier ist die Information, die du brauchst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ssehen (Augenfarbe, Haarefarbe, Grösse, Geschlecht) (mindenstens 4 Sät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 er/sie woh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her er/sie komm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kteristik Adjek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b:  *Superheld(in) oder Bösewicht  UND Karri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er/sie kann machen: (Das kann echt (real) oder unecht se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kann er/sie machen, was ungewöhnlich (unusual) ist: (Das kann echt (real) oder unecht se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Alter Eg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20:01:32Z</dcterms:created>
  <dc:creator>tmsadmin</dc:creator>
  <dc:description/>
  <dc:language>en-US</dc:language>
  <cp:lastModifiedBy>tmsadmin</cp:lastModifiedBy>
  <dcterms:modified xsi:type="dcterms:W3CDTF">2013-09-13T20:04:15Z</dcterms:modified>
  <cp:revision>1</cp:revision>
  <dc:subject/>
  <dc:title>Slide 1</dc:title>
</cp:coreProperties>
</file>